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967-6E07-4891-8D5A-2F029A35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8FC-F6A0-4915-881B-6FCC6E0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10F-7AB9-4C82-B792-FADD3E3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DD5-BF37-4AC2-9D1B-E834B9F0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242-CDF1-4E1A-90A7-8E28458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724-FC3E-4D24-8A03-357C94C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E58-BE8C-4552-B331-CAFE456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5AF-2B7B-4144-80F6-A28C4FD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4B2-030C-4BA4-A655-867FFEC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B95-C81E-4D8C-BF9E-651391B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553-404F-4861-8E0C-C932B82B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C9B-B4CB-47A9-9DF7-2A89259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AACB-41AF-4BC8-833F-4855A71D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 Clase 6nh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8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tu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1-4) 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1905120" cy="14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457200" y="3743280"/>
            <a:ext cx="167652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2743200" y="3833640"/>
            <a:ext cx="1511280" cy="16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7"/>
          <a:stretch/>
        </p:blipFill>
        <p:spPr>
          <a:xfrm>
            <a:off x="4749840" y="3886200"/>
            <a:ext cx="1689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8"/>
          <a:stretch/>
        </p:blipFill>
        <p:spPr>
          <a:xfrm>
            <a:off x="6781680" y="3962520"/>
            <a:ext cx="2028960" cy="2095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6094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orr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00400" y="2895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(de ves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486400" y="3048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apatos de t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39152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rb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3352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808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lce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274320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4724280" y="548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ntalones cor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16292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m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8088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4)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7)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9) p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rcicio 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-6) p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09480" y="4221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5105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a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4:32:32Z</dcterms:created>
  <dc:creator>Helen Zumaeta</dc:creator>
  <dc:description/>
  <dc:language>en-US</dc:language>
  <cp:lastModifiedBy>Helen Zumaeta</cp:lastModifiedBy>
  <dcterms:modified xsi:type="dcterms:W3CDTF">2013-02-06T20:30:34Z</dcterms:modified>
  <cp:revision>15</cp:revision>
  <dc:subject/>
  <dc:title>Me llamo __________   Clase 8 IM La fecha es el 21 de enero del 2010</dc:title>
</cp:coreProperties>
</file>